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ADA-8489-4CD7-B7CA-9834B8B009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4FB7-1D1F-4B62-A14D-BA1F25EF2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FEF-F3BC-4D25-B993-73C8345C5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C77-A6EF-4D99-9BC2-F75685EE1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E74C-351C-4CAD-B3DD-E53F5008F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817-3FE8-4320-8E60-295417281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B7C2-1DFF-4F53-ABDA-347EE4A69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13D-9B8B-4478-9394-1215A9557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08F-5FB9-4B0E-8BD4-48D3E4E14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694E-A747-48FE-90F0-C6DACB21C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71D-8FDB-489C-9F6E-E92B20822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E945-05B4-4F44-8CEE-72B2EE2C2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5246-9E50-44AD-B919-CD8A93AC9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3BB-3ABB-4AE2-9F09-8AF637B4E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0A1-6245-4A68-A92C-EDAD2A2F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41F-535E-4E2F-8393-51AC9744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039-D170-4E53-A4B3-C981E6F1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6AF-29ED-42DD-B718-44113D1D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841-DB2D-4F67-9C35-C8873D5A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EAB3-83F9-4E50-99D0-09B74114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1E5-16FC-4972-A616-517541E7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E7D4-75C1-401A-8F13-242B352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765-608C-4863-B30B-459EADF9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E92-D771-4EFF-BF62-01EC142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C385-8175-4558-B326-E75ABE9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C4D-7106-407A-A427-B6E8244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FEE-653F-4F86-9F66-DEBF02B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990-1749-4918-AE3A-1ECF0EA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4CAE-3C1C-455D-866B-F2B437F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8D37-F6EA-426F-9703-A9C5496F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0460-17CA-449C-B1AE-870FC29D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E07-FAE9-4AF1-867C-EE56501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238-2E03-4FB2-803A-2F4DAC0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C19-EAF3-47B0-AA8D-D1577146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E9C-7B38-425A-BD76-AA11F71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88A-B7DA-4A1E-AF3B-307DF4E5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463-2572-4342-8C20-1D0F5A5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6EF-043E-4615-A1F3-4062AD9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D4A-A1B2-47AF-8EA7-0D1532AFF0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299F-B78F-4B74-A83D-198DAD6C7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3CE9-93E3-481A-937C-B5A7E00762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F9E-5101-4F9A-A076-7DDB2AF4B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842920" y="4005360"/>
            <a:ext cx="59086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18 мая 2016 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835200" y="695160"/>
            <a:ext cx="8053200" cy="352296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29C7-C5F7-4F0C-8DFE-BFB98CB64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7CD-58C0-43A7-8E58-774704818551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928800" y="1125360"/>
            <a:ext cx="7172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Задача 2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юджет ОАО составляет 45 млн. р., а расходы на одну из его статей составили 12,5%. Сколько рублей потрачено на эту статью бюдже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84360" y="2828880"/>
            <a:ext cx="6173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5 млн. рублей –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 млн. рублей – 12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 = (45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2,5):100= 5,6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 flipV="1" rot="10800000">
            <a:off x="1835280" y="4922280"/>
            <a:ext cx="396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Ответ: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,625 млн. руб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4" descr=""/>
          <p:cNvPicPr/>
          <p:nvPr/>
        </p:nvPicPr>
        <p:blipFill>
          <a:blip r:embed="rId2"/>
          <a:stretch/>
        </p:blipFill>
        <p:spPr>
          <a:xfrm>
            <a:off x="5940360" y="2509920"/>
            <a:ext cx="29574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DE81-BCE8-4F33-8A03-FE86908A07A2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928800" y="1125360"/>
            <a:ext cx="7172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года число акционеров ОАО «Симон» составляло 250  человек, а в конце года их стало 200  человек. На сколько процентов уменьшилось за год число акционе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5" descr=""/>
          <p:cNvPicPr/>
          <p:nvPr/>
        </p:nvPicPr>
        <p:blipFill>
          <a:blip r:embed="rId2"/>
          <a:stretch/>
        </p:blipFill>
        <p:spPr>
          <a:xfrm>
            <a:off x="682560" y="2828880"/>
            <a:ext cx="6986520" cy="4565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2681280" cy="215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1" descr=""/>
          <p:cNvPicPr/>
          <p:nvPr/>
        </p:nvPicPr>
        <p:blipFill>
          <a:blip r:embed="rId1"/>
          <a:stretch/>
        </p:blipFill>
        <p:spPr>
          <a:xfrm>
            <a:off x="396720" y="-128520"/>
            <a:ext cx="8350560" cy="15127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F94-13F5-43BB-A591-C2D41D65805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611280" y="1197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Повышение квалификации работников (обуч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928800" y="1836720"/>
            <a:ext cx="7891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СИМОН» для повышения квалификации работников решило обратиться в образовательную фирму. Прейскурант цен этой фирмы приведён в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90480" y="3068640"/>
          <a:ext cx="8286840" cy="12272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49068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более 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10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1 до 1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6 до 20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а занятия для одного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9"/>
          <p:cNvSpPr/>
          <p:nvPr/>
        </p:nvSpPr>
        <p:spPr>
          <a:xfrm>
            <a:off x="1460520" y="5300640"/>
            <a:ext cx="750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Monotype Corsiva"/>
              </a:rPr>
              <a:t>Решение: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1)84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14 = 11760 (руб) -1 занятие для 14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2) 11760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•5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= 58800 (руб)- за 5 занятий для 14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твет: 588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928800" y="4437000"/>
            <a:ext cx="803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олько рублей необходимо заплатить ОАО «Симон» за 5 занятий группы из 14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362-868A-4A57-93B5-5EAED981E27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Мои документы\Мои рисунки\девочка.jpeg"/>
          <p:cNvPicPr/>
          <p:nvPr/>
        </p:nvPicPr>
        <p:blipFill>
          <a:blip r:embed="rId1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5" descr=""/>
          <p:cNvPicPr/>
          <p:nvPr/>
        </p:nvPicPr>
        <p:blipFill>
          <a:blip r:embed="rId2"/>
          <a:stretch/>
        </p:blipFill>
        <p:spPr>
          <a:xfrm>
            <a:off x="785880" y="-9684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6"/>
          <p:cNvSpPr/>
          <p:nvPr/>
        </p:nvSpPr>
        <p:spPr>
          <a:xfrm>
            <a:off x="684360" y="134136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Задача</a:t>
            </a:r>
            <a:r>
              <a:rPr b="0" i="1" lang="ru-RU" sz="2800" spc="-1" strike="noStrike">
                <a:solidFill>
                  <a:srgbClr val="c00000"/>
                </a:solidFill>
                <a:latin typeface="Monotype Corsiv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 среднем на каждые 100 качественных товаров приходится 4 с незначительными дефектами. Найдите вероятность того, что купленный товар окажется качеств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928800" y="2708280"/>
            <a:ext cx="803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Решение: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1) 100 – 4 = 96 (товаров) без деф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2) 96 : 100 = 0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1332000" y="487836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0,9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fruitinfo.ru/data/tradeboard/26938/tradeboardde69eY_img.jpg"/>
          <p:cNvPicPr/>
          <p:nvPr/>
        </p:nvPicPr>
        <p:blipFill>
          <a:blip r:embed="rId3"/>
          <a:stretch/>
        </p:blipFill>
        <p:spPr>
          <a:xfrm>
            <a:off x="4538520" y="371628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3BFC-EE67-46B5-B9D0-5DC0A906243C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Заголовок 5" descr=""/>
          <p:cNvPicPr/>
          <p:nvPr/>
        </p:nvPicPr>
        <p:blipFill>
          <a:blip r:embed="rId1"/>
          <a:stretch/>
        </p:blipFill>
        <p:spPr>
          <a:xfrm>
            <a:off x="785880" y="189000"/>
            <a:ext cx="8229600" cy="9572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96840" y="260280"/>
            <a:ext cx="992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Изучение потребительского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539640" y="1197000"/>
            <a:ext cx="43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рисунке жирными точками показана цена никеля на момент закрытия биржевых торгов во все рабочие дни с 6 по 20 мая 2015 года. По горизонтали указываются числа месяца, по вертикали — цена тонны никеля в долларах США. Для наглядности жирные точки на рисунке соединены линией. Определите по рисунку наибольшую цену никеля на момент закрытия торгов в указанны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в долларах США за тонн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1" descr="http://lib3.podelise.ru/tw_files2/urls_1/14/d-13450/7z-docs/4_html_d72c586.png"/>
          <p:cNvPicPr/>
          <p:nvPr/>
        </p:nvPicPr>
        <p:blipFill>
          <a:blip r:embed="rId2"/>
          <a:stretch/>
        </p:blipFill>
        <p:spPr>
          <a:xfrm>
            <a:off x="5187960" y="1465200"/>
            <a:ext cx="3672000" cy="2941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4932360" y="479736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3400 долларо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 тонну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396720" y="146160"/>
            <a:ext cx="8350560" cy="9633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687240" y="1430280"/>
            <a:ext cx="8061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900000" y="1720800"/>
            <a:ext cx="8064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ановите соответствие стрел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ый обмен одной вещи на другую без денег    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то помогает помочь увеличить продажу товара              кред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от, кто даёт деньги в долг                                                   бар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орившийся предприниматель                                       дивиде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рибыль, полученная на каждую акцию                            банк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1873080" y="4952880"/>
            <a:ext cx="2592720" cy="164484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5"/>
          <p:cNvCxnSpPr/>
          <p:nvPr/>
        </p:nvCxnSpPr>
        <p:spPr>
          <a:xfrm>
            <a:off x="6875640" y="2630160"/>
            <a:ext cx="505440" cy="94356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181" name="Прямая со стрелкой 7"/>
          <p:cNvCxnSpPr/>
          <p:nvPr/>
        </p:nvCxnSpPr>
        <p:spPr>
          <a:xfrm flipV="1">
            <a:off x="6443640" y="2630160"/>
            <a:ext cx="937440" cy="472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182" name="Прямая со стрелкой 9"/>
          <p:cNvCxnSpPr/>
          <p:nvPr/>
        </p:nvCxnSpPr>
        <p:spPr>
          <a:xfrm flipV="1">
            <a:off x="4140000" y="3101400"/>
            <a:ext cx="3096360" cy="47196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183" name="Прямая со стрелкой 12"/>
          <p:cNvCxnSpPr/>
          <p:nvPr/>
        </p:nvCxnSpPr>
        <p:spPr>
          <a:xfrm>
            <a:off x="4718160" y="4149720"/>
            <a:ext cx="2518200" cy="57528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184" name="Прямая со стрелкой 15"/>
          <p:cNvCxnSpPr/>
          <p:nvPr/>
        </p:nvCxnSpPr>
        <p:spPr>
          <a:xfrm flipV="1">
            <a:off x="5435280" y="4149360"/>
            <a:ext cx="1801080" cy="57528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</p:spTree>
  </p:cSld>
  <p:transition spd="slow">
    <p:wheel spokes="1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755640" y="-22536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10920" y="1412640"/>
            <a:ext cx="5329080" cy="24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“</a:t>
            </a: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Математику только затем учить над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что она ум в порядок приводит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549C-A348-4405-86ED-D3EF76405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065400" y="3860640"/>
            <a:ext cx="41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В. Ломо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pravmir.ru/wp-content/uploads/2012/10/Lomonosov_portret.jpg"/>
          <p:cNvPicPr/>
          <p:nvPr/>
        </p:nvPicPr>
        <p:blipFill>
          <a:blip r:embed="rId2"/>
          <a:stretch/>
        </p:blipFill>
        <p:spPr>
          <a:xfrm>
            <a:off x="6335640" y="1344600"/>
            <a:ext cx="1852560" cy="24447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5"/>
          <p:cNvSpPr/>
          <p:nvPr/>
        </p:nvSpPr>
        <p:spPr>
          <a:xfrm>
            <a:off x="1042920" y="5729400"/>
            <a:ext cx="62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Домашнее задание: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ИМы вариант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85196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Объект 2"/>
          <p:cNvSpPr/>
          <p:nvPr/>
        </p:nvSpPr>
        <p:spPr>
          <a:xfrm>
            <a:off x="1528920" y="6093000"/>
            <a:ext cx="3028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ъект 2"/>
          <p:cNvSpPr/>
          <p:nvPr/>
        </p:nvSpPr>
        <p:spPr>
          <a:xfrm>
            <a:off x="4932360" y="1270080"/>
            <a:ext cx="4032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9"/>
          <p:cNvSpPr/>
          <p:nvPr/>
        </p:nvSpPr>
        <p:spPr>
          <a:xfrm>
            <a:off x="8234280" y="649296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289-A5A5-438A-9A2F-A8862279DD2F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24000" y="5157720"/>
            <a:ext cx="1800000" cy="1700280"/>
          </a:xfrm>
          <a:prstGeom prst="rect">
            <a:avLst/>
          </a:prstGeom>
          <a:ln w="0">
            <a:noFill/>
          </a:ln>
        </p:spPr>
      </p:pic>
      <p:sp>
        <p:nvSpPr>
          <p:cNvPr id="97" name="Объект 2"/>
          <p:cNvSpPr/>
          <p:nvPr/>
        </p:nvSpPr>
        <p:spPr>
          <a:xfrm>
            <a:off x="2124000" y="2276640"/>
            <a:ext cx="4939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3492360" y="2492280"/>
            <a:ext cx="49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3564000" y="119700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ъект 2"/>
          <p:cNvSpPr/>
          <p:nvPr/>
        </p:nvSpPr>
        <p:spPr>
          <a:xfrm>
            <a:off x="539640" y="1484280"/>
            <a:ext cx="493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ъект 2"/>
          <p:cNvSpPr/>
          <p:nvPr/>
        </p:nvSpPr>
        <p:spPr>
          <a:xfrm>
            <a:off x="3492360" y="1700280"/>
            <a:ext cx="640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755640" y="3068640"/>
            <a:ext cx="604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бъект 2"/>
          <p:cNvSpPr/>
          <p:nvPr/>
        </p:nvSpPr>
        <p:spPr>
          <a:xfrm>
            <a:off x="755640" y="350028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3132000" y="907920"/>
            <a:ext cx="493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8459640" y="3860640"/>
            <a:ext cx="57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ъект 2"/>
          <p:cNvSpPr/>
          <p:nvPr/>
        </p:nvSpPr>
        <p:spPr>
          <a:xfrm>
            <a:off x="6516720" y="4437000"/>
            <a:ext cx="57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39640" y="1166760"/>
            <a:ext cx="849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Образовательная цел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яснить, как учащиеся усвоили алгоритм решения задач модуля «Реальная математика»; закрепить знания учащихся по теме и умение примен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Развивающая цель: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Активизация познавательной деятельности учащихся через решение практических задач; умение выбирать правиль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Monotype Corsiva"/>
                <a:ea typeface="Times New Roman"/>
              </a:rPr>
              <a:t>Воспитательная цель: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рганизация совместной учебной деятельности в группе, терпимости по отношению друг к другу и желание помоч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Тип урока: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00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вторение и 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Форма урока: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00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еловая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2C5-22E3-40A1-9137-707B7DAF2FB7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687240" y="1430280"/>
            <a:ext cx="80614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АО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акционерное обществ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ющее группу людей, которые на свои средства приобретают предприятия, а взамен получают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 – ценные бумаг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быль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иденд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ладелец акций получает в зависимости от их коли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акционерное обще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воё назв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www.tulapressa.ru/wp-content/uploads/2012/09/consulting-4.jpg"/>
          <p:cNvPicPr/>
          <p:nvPr/>
        </p:nvPicPr>
        <p:blipFill>
          <a:blip r:embed="rId3"/>
          <a:stretch/>
        </p:blipFill>
        <p:spPr>
          <a:xfrm>
            <a:off x="5867280" y="4005360"/>
            <a:ext cx="321012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493-10C3-4BAB-A634-D0E167B48F0A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687240" y="1430280"/>
            <a:ext cx="806148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Задания для расшифровки названия ОА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c0504d"/>
                </a:solidFill>
                <a:latin typeface="Calibri"/>
              </a:rPr>
              <a:t>.  Колесо имеет 18 спиц. Найдите величину угла (в градусах), который образуют две соседние сп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.Стол стоит 550 рублей. Во время акции магазин предоставляет на него скидку 30%. Сколько будет стоить стол во время а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4</a:t>
            </a:r>
            <a:r>
              <a:rPr b="0" i="1" lang="ru-RU" sz="2000" spc="-1" strike="noStrike">
                <a:solidFill>
                  <a:srgbClr val="e46c0a"/>
                </a:solidFill>
                <a:latin typeface="Calibri"/>
              </a:rPr>
              <a:t>. У бабушки 20 чашек: 15 с красными цветами, остальные с синими. Бабушка наливает чай в случайно выбранную чашку. Найдите вероятность того, что это будет чашка с синими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042920" y="2620800"/>
            <a:ext cx="763272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BE6-401C-457C-9A8B-EB2A3E583CA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687240" y="1430280"/>
            <a:ext cx="806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.На рисунке жирными точками показана среднесуточная температура воздуха в Ульяновске 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, какого числа среднесуточная температура была наименьшей за указанный период.(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031EE91CC9D5AD1F42C34AF23E174BC5/simg1_1258043240.png"/>
          <p:cNvPicPr/>
          <p:nvPr/>
        </p:nvPicPr>
        <p:blipFill>
          <a:blip r:embed="rId3"/>
          <a:stretch/>
        </p:blipFill>
        <p:spPr>
          <a:xfrm>
            <a:off x="1258920" y="3284640"/>
            <a:ext cx="612144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24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9D20-1D69-4A10-B95A-022E22499E67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687240" y="1430280"/>
            <a:ext cx="8061480" cy="34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блица от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2421000"/>
          <a:ext cx="7388280" cy="1388880"/>
        </p:xfrm>
        <a:graphic>
          <a:graphicData uri="http://schemas.openxmlformats.org/drawingml/2006/table">
            <a:tbl>
              <a:tblPr/>
              <a:tblGrid>
                <a:gridCol w="763560"/>
                <a:gridCol w="863640"/>
                <a:gridCol w="792000"/>
                <a:gridCol w="720720"/>
                <a:gridCol w="719280"/>
                <a:gridCol w="792000"/>
                <a:gridCol w="720720"/>
                <a:gridCol w="720720"/>
                <a:gridCol w="647640"/>
                <a:gridCol w="64800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7EE-FD4B-46FA-B1BF-FAAAAAA93BBE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95280" y="5827680"/>
            <a:ext cx="1065240" cy="10303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7240" y="1430280"/>
            <a:ext cx="80614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Bookman Old Style"/>
                <a:ea typeface="Calibri"/>
              </a:rPr>
              <a:t>ОАО«СИМО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имон Стевин - инженер из Нидерландов.  Впервые применил проценты и современную запись десятичных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5" descr="http://image.wikifoundry.com/image/1/rK6txiHjLEJsAqaxtE2H0w23894/GW161H206"/>
          <p:cNvPicPr/>
          <p:nvPr/>
        </p:nvPicPr>
        <p:blipFill>
          <a:blip r:embed="rId3"/>
          <a:stretch/>
        </p:blipFill>
        <p:spPr>
          <a:xfrm>
            <a:off x="3348000" y="2492280"/>
            <a:ext cx="223200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3492360" y="1268280"/>
            <a:ext cx="5032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Monotype Corsiva"/>
              </a:rPr>
              <a:t>Кто может стать акционер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611280" y="3105000"/>
            <a:ext cx="406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Вступить в ОАО может каждый, купивший акции предприя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://vcmdrp.tums.ac.ir/files/engineering/1336220000.jpg"/>
          <p:cNvPicPr/>
          <p:nvPr/>
        </p:nvPicPr>
        <p:blipFill>
          <a:blip r:embed="rId2"/>
          <a:stretch/>
        </p:blipFill>
        <p:spPr>
          <a:xfrm>
            <a:off x="4500720" y="3105000"/>
            <a:ext cx="3944880" cy="27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www.obzor.lt/images/news/11/2012_06_12/pic8.jpg"/>
          <p:cNvPicPr/>
          <p:nvPr/>
        </p:nvPicPr>
        <p:blipFill>
          <a:blip r:embed="rId3"/>
          <a:stretch/>
        </p:blipFill>
        <p:spPr>
          <a:xfrm>
            <a:off x="826920" y="1268280"/>
            <a:ext cx="21924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350560" cy="102384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3"/>
          <p:cNvSpPr/>
          <p:nvPr/>
        </p:nvSpPr>
        <p:spPr>
          <a:xfrm>
            <a:off x="8388360" y="6492960"/>
            <a:ext cx="66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51C-28D8-4BA4-BE40-BC0A9A1852B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911160" y="1112760"/>
            <a:ext cx="7172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ст на покупку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а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 ОАО распределены между директором ОАО и частными лицами в отношении 3:5. Общая прибыль предприятия, после уплаты налогов, за год составила 32 млн.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умма из этой прибыли дол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ти на выплату частным акционер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60480" y="4092480"/>
            <a:ext cx="72007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+5=8(частей)-всег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32:8=4(млн.р.)-в 1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5•4=20(млн.р.)- на выплату частным акционе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619280" y="597384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млн. руб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"/>
          <p:cNvPicPr/>
          <p:nvPr/>
        </p:nvPicPr>
        <p:blipFill>
          <a:blip r:embed="rId2"/>
          <a:stretch/>
        </p:blipFill>
        <p:spPr>
          <a:xfrm>
            <a:off x="6767640" y="256536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HP</cp:lastModifiedBy>
  <dcterms:modified xsi:type="dcterms:W3CDTF">2016-05-17T19:03:35Z</dcterms:modified>
  <cp:revision>91</cp:revision>
  <dc:subject/>
  <dc:title>Слайд 1</dc:title>
</cp:coreProperties>
</file>